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17.pct" ContentType="image/x-pict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5A9-B2E6-4492-B9A7-F168D00B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04E-2DE4-4470-8990-8D8CD598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AB1-EFE7-40BD-B4BF-13B4A242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231-D7D8-44BF-83FC-CD855631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BC8-AF19-42F1-9165-338E86E7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095-8E55-4888-AF1B-F6F477C9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8A3-2192-4F0F-898A-A96DCD1B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DA7-8F5E-4B90-A474-A6D5BF94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7DB-BC80-46FF-A1FC-D7732BAB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A7A-D9B9-4AA5-9165-D885D251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93D-8699-462A-9820-940A917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472-8D4C-47C6-99BB-0BE59AEE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CA46-54BB-49BC-A054-C59065232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McfrLYDm2U" TargetMode="External"/><Relationship Id="rId2" Type="http://schemas.openxmlformats.org/officeDocument/2006/relationships/image" Target="../media/image2.pct"/><Relationship Id="rId3" Type="http://schemas.openxmlformats.org/officeDocument/2006/relationships/hyperlink" Target="http://www.youtube.com/watch?v=_A-ZVCjfWf8" TargetMode="External"/><Relationship Id="rId4" Type="http://schemas.openxmlformats.org/officeDocument/2006/relationships/hyperlink" Target="http://www.youtube.com/watch?v=_A-ZVCjfWf8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1centuryconnections.com/" TargetMode="External"/><Relationship Id="rId2" Type="http://schemas.openxmlformats.org/officeDocument/2006/relationships/hyperlink" Target="http://www.techlearning.com/" TargetMode="External"/><Relationship Id="rId3" Type="http://schemas.openxmlformats.org/officeDocument/2006/relationships/hyperlink" Target="http://www.eschoolnews.com/resources/creating-the-21st-century-classroom/" TargetMode="External"/><Relationship Id="rId4" Type="http://schemas.openxmlformats.org/officeDocument/2006/relationships/hyperlink" Target="http://www.21stcenturyskills.org/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disondiocese.org/Schools/CurriculumDevelopment/Technology/tabid/263/Default.aspx" TargetMode="External"/><Relationship Id="rId2" Type="http://schemas.openxmlformats.org/officeDocument/2006/relationships/hyperlink" Target="http://www.21stcenturyskills.org/route21/index.php?option=com_content&amp;view=article&amp;id=47&amp;Itemid=41" TargetMode="External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21stcenturyskills.org/" TargetMode="External"/><Relationship Id="rId2" Type="http://schemas.openxmlformats.org/officeDocument/2006/relationships/hyperlink" Target="http://www.21centuryconnections.com/" TargetMode="External"/><Relationship Id="rId3" Type="http://schemas.openxmlformats.org/officeDocument/2006/relationships/hyperlink" Target="http://www.youtube.com/" TargetMode="External"/><Relationship Id="rId4" Type="http://schemas.openxmlformats.org/officeDocument/2006/relationships/hyperlink" Target="http://www.techlearning.com/" TargetMode="External"/><Relationship Id="rId5" Type="http://schemas.openxmlformats.org/officeDocument/2006/relationships/hyperlink" Target="http://www.eschoolnews.com/" TargetMode="External"/><Relationship Id="rId6" Type="http://schemas.openxmlformats.org/officeDocument/2006/relationships/hyperlink" Target="http://www.education.smarttech.com/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hyperlink" Target="http://www.teacherslovesmartboards.com/" TargetMode="External"/><Relationship Id="rId10" Type="http://schemas.openxmlformats.org/officeDocument/2006/relationships/hyperlink" Target="http://www.edutopia.org/" TargetMode="External"/><Relationship Id="rId11" Type="http://schemas.openxmlformats.org/officeDocument/2006/relationships/hyperlink" Target="http://www.thinkfinity.org/" TargetMode="External"/><Relationship Id="rId12" Type="http://schemas.openxmlformats.org/officeDocument/2006/relationships/hyperlink" Target="http://www.storycenter.org/" TargetMode="External"/><Relationship Id="rId13" Type="http://schemas.openxmlformats.org/officeDocument/2006/relationships/hyperlink" Target="http://www.webquest.org/" TargetMode="External"/><Relationship Id="rId14" Type="http://schemas.openxmlformats.org/officeDocument/2006/relationships/hyperlink" Target="http://www.plasq.com/comiclife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eing “Smart” with SMART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ducating the 21st Century Lear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2666880" cy="259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4648320"/>
            <a:ext cx="647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i Kra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5029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gie Sch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54864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. John the Baptist Catholic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5867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efferson, 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28800" y="609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669960"/>
            <a:ext cx="5867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sential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17524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736640"/>
            <a:ext cx="6095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What is a “21st Century Learner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What does this mean for me, the teac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How do I integrate technology to enh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udent lear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What teacher resources are avail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technology in edu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What is a “SMARTBoard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-How can I use the SMARTBoard acro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curricul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7621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1160" y="457200"/>
            <a:ext cx="5875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sion for K12 Learners in the 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4724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"Did You Know?"  (YouTube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143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id You K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1177920" cy="253224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/>
          </p:cNvPr>
          <p:cNvSpPr/>
          <p:nvPr/>
        </p:nvSpPr>
        <p:spPr>
          <a:xfrm>
            <a:off x="1523880" y="56386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"A Vision for K12 Learners"  (YouTube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      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21st Century Lear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1181160" cy="1612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1574640" cy="118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1498680" cy="1181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705720" y="1523880"/>
            <a:ext cx="1778040" cy="1333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429000" y="3505320"/>
            <a:ext cx="1650960" cy="107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276720" y="1676520"/>
            <a:ext cx="1904760" cy="154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5410080" y="4343400"/>
            <a:ext cx="1575000" cy="124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2209680" y="4114800"/>
            <a:ext cx="1041480" cy="1574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304920" y="1447920"/>
            <a:ext cx="1714320" cy="1282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3657600" y="4876920"/>
            <a:ext cx="135900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7010280" y="3048120"/>
            <a:ext cx="1524240" cy="119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533520" y="5181480"/>
            <a:ext cx="1574640" cy="1041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7391520" y="4495680"/>
            <a:ext cx="97776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685800"/>
            <a:ext cx="609624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I am a 21st Century Learner!  I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3854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21st Century Teachers and Classro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38520" y="5105520"/>
            <a:ext cx="533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uilding an Intelligent Digital Learning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5835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eating the 21st Century Class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lkboard"/>
              </a:rPr>
              <a:t>Why the hype about technology and learning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2895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Let’s take a look at what the “21st Century Community” is talking abou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38768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Framework of Skills for 21st Century Lea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200400" y="10666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86240" y="487692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Diocesan Technology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Wisconsin Takes the Lead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0360" y="23623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isconsin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Optima Bold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Optima Bold"/>
              </a:rPr>
              <a:t>Diocesan Standards:  How do we measure up?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57600" y="68580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429000" y="3352680"/>
            <a:ext cx="1574640" cy="157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04280" y="563868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St. John the Baptist School:  What is our vi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1295280"/>
            <a:ext cx="815328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21stcenturyskill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21centuryconnection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techlearning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eschoolnew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education.smarttech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madisondiocese.org/Schools/CurriculumDevelopment/Technology/tabid/263/Default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9000" y="533520"/>
            <a:ext cx="1905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ebsite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066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res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733920"/>
            <a:ext cx="74674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teacherslovesmartboard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edutopia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thinkfinity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storycenter.org/index1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webquest.org/index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plasq.com/comic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.apple.com/au/education/ipod/les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.juliethompson.com/SMART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ikeepbookmarks.com/maillinks.asp?folder=11662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.explorelearning.com/index.cf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5053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General/All Content Area Si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638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K-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14:34:46Z</dcterms:created>
  <dc:creator>Margarete Schels</dc:creator>
  <dc:description/>
  <dc:language>en-US</dc:language>
  <cp:lastModifiedBy>Margarete Schels</cp:lastModifiedBy>
  <dcterms:modified xsi:type="dcterms:W3CDTF">2008-07-31T03:48:51Z</dcterms:modified>
  <cp:revision>31</cp:revision>
  <dc:subject/>
  <dc:title>PowerPoint Presentation</dc:title>
</cp:coreProperties>
</file>